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5.wmf" ContentType="image/x-wmf"/>
  <Override PartName="/ppt/media/image9.wmf" ContentType="image/x-wmf"/>
  <Override PartName="/ppt/media/image14.png" ContentType="image/png"/>
  <Override PartName="/ppt/media/image13.wmf" ContentType="image/x-wmf"/>
  <Override PartName="/ppt/media/image8.wmf" ContentType="image/x-wmf"/>
  <Override PartName="/ppt/media/image12.png" ContentType="image/png"/>
  <Override PartName="/ppt/media/image21.png" ContentType="image/png"/>
  <Override PartName="/ppt/media/image4.png" ContentType="image/png"/>
  <Override PartName="/ppt/media/image20.png" ContentType="image/png"/>
  <Override PartName="/ppt/media/image11.wmf" ContentType="image/x-wmf"/>
  <Override PartName="/ppt/media/image3.png" ContentType="image/png"/>
  <Override PartName="/ppt/media/image19.wmf" ContentType="image/x-wmf"/>
  <Override PartName="/ppt/media/image2.png" ContentType="image/png"/>
  <Override PartName="/ppt/media/image18.wmf" ContentType="image/x-wmf"/>
  <Override PartName="/ppt/media/image1.png" ContentType="image/png"/>
  <Override PartName="/ppt/media/image17.wmf" ContentType="image/x-wmf"/>
  <Override PartName="/ppt/media/image16.wmf" ContentType="image/x-wmf"/>
  <Override PartName="/ppt/media/image6.wmf" ContentType="image/x-wmf"/>
  <Override PartName="/ppt/media/image7.png" ContentType="image/png"/>
  <Override PartName="/ppt/media/image15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10058400" cy="7772400"/>
  <p:notesSz cx="6858000" cy="91074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0F4BDB-18AF-41EF-846D-0FBC338C6F2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469662-1A06-44EF-9140-19D7A6DF4CD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1F1D605-E03E-4D4C-B735-C3F1D0F1F03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766DB50-168E-439B-8D9E-07EE0A0062D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EDE1C57-7B4D-45BB-81C2-23430735C6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5B2C5C-89E7-4550-BBDD-4910F0D403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B295472-FEE0-4BEB-B300-9FED01E0ED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B9FDEF-9481-4F81-8576-9D0572BF03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93960DF-E49E-45CD-9978-B2F9484F6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D0368A-A1D6-4F7F-A22E-99EFAAC491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E1DD3A4-7325-4C8A-B8B2-294A8EC35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4D24427-2F36-4476-9B64-AB608C4CAF6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49408A8-5CE2-4DF5-906B-4716D7A97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69AAE10-D68A-4174-A5D0-EC9A3ACE9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F899B37-8ABB-43CC-81D4-62F4D7684E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49EDA2-E350-4F0F-A028-EF38D08AE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71376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594480" y="157932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83304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71376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594480" y="4375440"/>
            <a:ext cx="274320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A4E95C-F7B7-437F-B1A5-053A4F3CEB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044D397-6C3C-4787-85C2-4577CBD2CCE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BA1E983-0995-43E1-9D72-E270FF59A1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738F42-4AB3-4E50-A9B3-D2555212A0C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846000" y="552600"/>
            <a:ext cx="8501040" cy="360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AFD5B5-E226-4939-8444-B1B1354ECFD8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9054D0-4087-4116-B01E-4377167CF53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199120" y="437544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7BFA45-7944-42F1-9457-E77D146E4A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99120" y="1579320"/>
            <a:ext cx="415764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833040" y="4375440"/>
            <a:ext cx="8520120" cy="25531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46D388-AC6C-4F3E-B2C2-17C5EE9AE30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lick to edit the outline text format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con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2" marL="118260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ird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3" marL="155088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ur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4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if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5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ix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6" marL="1919160" indent="-253800">
              <a:spcBef>
                <a:spcPts val="649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eventh Outline Level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819000" y="7111800"/>
            <a:ext cx="3067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9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56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829F648F-0DD7-4C10-AA24-588897D5AA47}" type="slidenum">
              <a:rPr b="0" lang="en-US" sz="9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835200" y="1103400"/>
            <a:ext cx="8528040" cy="1440"/>
          </a:xfrm>
          <a:prstGeom prst="line">
            <a:avLst/>
          </a:prstGeom>
          <a:ln w="316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" descr=""/>
          <p:cNvPicPr/>
          <p:nvPr/>
        </p:nvPicPr>
        <p:blipFill>
          <a:blip r:embed="rId2"/>
          <a:stretch/>
        </p:blipFill>
        <p:spPr>
          <a:xfrm>
            <a:off x="7342200" y="6953400"/>
            <a:ext cx="1276200" cy="495000"/>
          </a:xfrm>
          <a:prstGeom prst="rect">
            <a:avLst/>
          </a:prstGeom>
          <a:ln w="0">
            <a:noFill/>
          </a:ln>
        </p:spPr>
      </p:pic>
      <p:sp>
        <p:nvSpPr>
          <p:cNvPr id="5" name=""/>
          <p:cNvSpPr/>
          <p:nvPr/>
        </p:nvSpPr>
        <p:spPr>
          <a:xfrm>
            <a:off x="833400" y="7149960"/>
            <a:ext cx="6373800" cy="1800"/>
          </a:xfrm>
          <a:prstGeom prst="line">
            <a:avLst/>
          </a:prstGeom>
          <a:ln w="19080">
            <a:solidFill>
              <a:srgbClr val="ab0e4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7693200" y="7261200"/>
            <a:ext cx="1809360" cy="23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01880" rIns="101880" tIns="51120" bIns="5112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i="1" lang="en-US" sz="900" spc="-1" strike="noStrike">
                <a:solidFill>
                  <a:srgbClr val="000000"/>
                </a:solidFill>
                <a:latin typeface="Arial"/>
              </a:rPr>
              <a:t>Yield, Performance, Profitability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839960" y="1832040"/>
            <a:ext cx="7640640" cy="1295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2"/>
          </p:nvPr>
        </p:nvSpPr>
        <p:spPr>
          <a:xfrm>
            <a:off x="782640" y="7061040"/>
            <a:ext cx="2122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3"/>
          </p:nvPr>
        </p:nvSpPr>
        <p:spPr>
          <a:xfrm>
            <a:off x="3463920" y="7061040"/>
            <a:ext cx="313056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ja-JP" sz="16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4"/>
          </p:nvPr>
        </p:nvSpPr>
        <p:spPr>
          <a:xfrm>
            <a:off x="7264080" y="7077240"/>
            <a:ext cx="2011320" cy="581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lstStyle>
            <a:lvl1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ja-JP" sz="16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9353F489-357E-45F1-9AFC-8903ADD9C6BD}" type="slidenum">
              <a:rPr b="0" lang="ja-JP" sz="16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838080" y="1000080"/>
            <a:ext cx="2122560" cy="8096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502920" y="1818720"/>
            <a:ext cx="9052200" cy="4507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1135080" indent="0">
              <a:spcBef>
                <a:spcPts val="349"/>
              </a:spcBef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568440" indent="0" algn="ctr">
              <a:spcBef>
                <a:spcPts val="624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35080" algn="ctr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03520" indent="-568440" algn="ctr">
              <a:spcBef>
                <a:spcPts val="575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4" marL="2271600" indent="-1136520" algn="ctr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5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6" marL="2271600" indent="-1136520">
              <a:spcBef>
                <a:spcPts val="55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wmf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wmf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8.wmf"/><Relationship Id="rId2" Type="http://schemas.openxmlformats.org/officeDocument/2006/relationships/image" Target="../media/image21.png"/><Relationship Id="rId3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1432080" y="612360"/>
            <a:ext cx="7640640" cy="20480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b">
            <a:noAutofit/>
          </a:bodyPr>
          <a:p>
            <a:pPr indent="0" algn="ctr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Simple Visualizations </a:t>
            </a:r>
            <a:br>
              <a:rPr sz="3200"/>
            </a:br>
            <a:r>
              <a:rPr b="1" lang="en-US" sz="3200" spc="-1" strike="noStrike">
                <a:solidFill>
                  <a:srgbClr val="ab0e4b"/>
                </a:solidFill>
                <a:latin typeface="Arial"/>
              </a:rPr>
              <a:t>of Paired Comparisons </a:t>
            </a:r>
            <a:endParaRPr b="1" lang="en-US" sz="32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868320" y="2698560"/>
            <a:ext cx="7042320" cy="200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pencer Graves, PDF Solutions, San Jose, CA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1135080" indent="0">
              <a:spcBef>
                <a:spcPts val="349"/>
              </a:spcBef>
              <a:buNone/>
              <a:tabLst>
                <a:tab algn="l" pos="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Hans-Peter Piepho, University of Hohenheim, Germany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440" y="3949560"/>
            <a:ext cx="1676520" cy="3241800"/>
          </a:xfrm>
          <a:prstGeom prst="rect">
            <a:avLst/>
          </a:prstGeom>
          <a:ln w="0">
            <a:noFill/>
          </a:ln>
        </p:spPr>
      </p:pic>
      <p:grpSp>
        <p:nvGrpSpPr>
          <p:cNvPr id="88" name=""/>
          <p:cNvGrpSpPr/>
          <p:nvPr/>
        </p:nvGrpSpPr>
        <p:grpSpPr>
          <a:xfrm>
            <a:off x="1677960" y="3290760"/>
            <a:ext cx="5918400" cy="1638360"/>
            <a:chOff x="1677960" y="3290760"/>
            <a:chExt cx="5918400" cy="1638360"/>
          </a:xfrm>
        </p:grpSpPr>
        <p:pic>
          <p:nvPicPr>
            <p:cNvPr id="89" name="" descr=""/>
            <p:cNvPicPr/>
            <p:nvPr/>
          </p:nvPicPr>
          <p:blipFill>
            <a:blip r:embed="rId2"/>
            <a:stretch/>
          </p:blipFill>
          <p:spPr>
            <a:xfrm>
              <a:off x="1808280" y="3290760"/>
              <a:ext cx="5788080" cy="16383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0" name=""/>
            <p:cNvSpPr/>
            <p:nvPr/>
          </p:nvSpPr>
          <p:spPr>
            <a:xfrm>
              <a:off x="1963800" y="4325760"/>
              <a:ext cx="75960" cy="152640"/>
            </a:xfrm>
            <a:prstGeom prst="rect">
              <a:avLst/>
            </a:prstGeom>
            <a:solidFill>
              <a:srgbClr val="ff66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 flipH="1">
              <a:off x="1677960" y="4478400"/>
              <a:ext cx="285840" cy="95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2" name=""/>
          <p:cNvSpPr/>
          <p:nvPr/>
        </p:nvSpPr>
        <p:spPr>
          <a:xfrm>
            <a:off x="46080" y="7205760"/>
            <a:ext cx="3994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J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3606840" y="4541760"/>
            <a:ext cx="6451560" cy="3171960"/>
          </a:xfrm>
          <a:prstGeom prst="rect">
            <a:avLst/>
          </a:prstGeom>
          <a:ln w="57240">
            <a:solidFill>
              <a:srgbClr val="242fb8"/>
            </a:solidFill>
            <a:miter/>
          </a:ln>
        </p:spPr>
      </p:pic>
      <p:sp>
        <p:nvSpPr>
          <p:cNvPr id="94" name=""/>
          <p:cNvSpPr/>
          <p:nvPr/>
        </p:nvSpPr>
        <p:spPr>
          <a:xfrm>
            <a:off x="6400800" y="3657600"/>
            <a:ext cx="457200" cy="228600"/>
          </a:xfrm>
          <a:prstGeom prst="rect">
            <a:avLst/>
          </a:prstGeom>
          <a:noFill/>
          <a:ln w="57240">
            <a:solidFill>
              <a:srgbClr val="242fb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7805160" y="7262640"/>
            <a:ext cx="167112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Stuttgar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8853120" y="4491000"/>
            <a:ext cx="1159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Berli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3214440" y="6523200"/>
            <a:ext cx="100368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entury"/>
              </a:rPr>
              <a:t>Pari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 rot="16200000">
            <a:off x="-1736640" y="2650680"/>
            <a:ext cx="3994200" cy="520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an Francisc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View package in R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1314360" y="1219320"/>
            <a:ext cx="3710160" cy="10666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6426360" y="69840"/>
            <a:ext cx="1904760" cy="1905120"/>
          </a:xfrm>
          <a:prstGeom prst="ellipse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at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603440" y="1330200"/>
            <a:ext cx="3292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ired Comparison Summa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 flipH="1">
            <a:off x="4978080" y="1295280"/>
            <a:ext cx="1498680" cy="316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6" name=""/>
          <p:cNvGrpSpPr/>
          <p:nvPr/>
        </p:nvGrpSpPr>
        <p:grpSpPr>
          <a:xfrm>
            <a:off x="298440" y="2971800"/>
            <a:ext cx="2449440" cy="762120"/>
            <a:chOff x="298440" y="2971800"/>
            <a:chExt cx="2449440" cy="762120"/>
          </a:xfrm>
        </p:grpSpPr>
        <p:sp>
          <p:nvSpPr>
            <p:cNvPr id="177" name=""/>
            <p:cNvSpPr/>
            <p:nvPr/>
          </p:nvSpPr>
          <p:spPr>
            <a:xfrm>
              <a:off x="298440" y="2971800"/>
              <a:ext cx="24494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452160" y="309096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79" name=""/>
          <p:cNvGrpSpPr/>
          <p:nvPr/>
        </p:nvGrpSpPr>
        <p:grpSpPr>
          <a:xfrm>
            <a:off x="3157560" y="2971800"/>
            <a:ext cx="2840040" cy="762120"/>
            <a:chOff x="3157560" y="2971800"/>
            <a:chExt cx="2840040" cy="762120"/>
          </a:xfrm>
        </p:grpSpPr>
        <p:sp>
          <p:nvSpPr>
            <p:cNvPr id="180" name=""/>
            <p:cNvSpPr/>
            <p:nvPr/>
          </p:nvSpPr>
          <p:spPr>
            <a:xfrm>
              <a:off x="3157560" y="2971800"/>
              <a:ext cx="284004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3169440" y="309096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82" name=""/>
          <p:cNvGrpSpPr/>
          <p:nvPr/>
        </p:nvGrpSpPr>
        <p:grpSpPr>
          <a:xfrm>
            <a:off x="6829560" y="2971800"/>
            <a:ext cx="3043080" cy="762120"/>
            <a:chOff x="6829560" y="2971800"/>
            <a:chExt cx="3043080" cy="762120"/>
          </a:xfrm>
        </p:grpSpPr>
        <p:sp>
          <p:nvSpPr>
            <p:cNvPr id="183" name=""/>
            <p:cNvSpPr/>
            <p:nvPr/>
          </p:nvSpPr>
          <p:spPr>
            <a:xfrm>
              <a:off x="6829560" y="2971800"/>
              <a:ext cx="3043080" cy="762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881400" y="3090960"/>
              <a:ext cx="2910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Boxplo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5" name=""/>
          <p:cNvSpPr/>
          <p:nvPr/>
        </p:nvSpPr>
        <p:spPr>
          <a:xfrm flipH="1">
            <a:off x="1494000" y="2224080"/>
            <a:ext cx="73008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272120" y="2224080"/>
            <a:ext cx="357120" cy="750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7783560" y="1919160"/>
            <a:ext cx="487440" cy="1027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83880" y="2320920"/>
            <a:ext cx="14288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nc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-47520" y="3713040"/>
            <a:ext cx="11919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object of class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90" name=""/>
          <p:cNvGrpSpPr/>
          <p:nvPr/>
        </p:nvGrpSpPr>
        <p:grpSpPr>
          <a:xfrm>
            <a:off x="298440" y="4438800"/>
            <a:ext cx="2449440" cy="761760"/>
            <a:chOff x="298440" y="4438800"/>
            <a:chExt cx="2449440" cy="761760"/>
          </a:xfrm>
        </p:grpSpPr>
        <p:sp>
          <p:nvSpPr>
            <p:cNvPr id="191" name=""/>
            <p:cNvSpPr/>
            <p:nvPr/>
          </p:nvSpPr>
          <p:spPr>
            <a:xfrm>
              <a:off x="298440" y="4438800"/>
              <a:ext cx="24494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52160" y="4557600"/>
              <a:ext cx="21178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T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3" name=""/>
          <p:cNvGrpSpPr/>
          <p:nvPr/>
        </p:nvGrpSpPr>
        <p:grpSpPr>
          <a:xfrm>
            <a:off x="3157560" y="4438800"/>
            <a:ext cx="2840040" cy="761760"/>
            <a:chOff x="3157560" y="4438800"/>
            <a:chExt cx="2840040" cy="761760"/>
          </a:xfrm>
        </p:grpSpPr>
        <p:sp>
          <p:nvSpPr>
            <p:cNvPr id="194" name=""/>
            <p:cNvSpPr/>
            <p:nvPr/>
          </p:nvSpPr>
          <p:spPr>
            <a:xfrm>
              <a:off x="3157560" y="4438800"/>
              <a:ext cx="2840040" cy="7617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3169440" y="4557600"/>
              <a:ext cx="2812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multcompLetters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6" name=""/>
          <p:cNvGrpSpPr/>
          <p:nvPr/>
        </p:nvGrpSpPr>
        <p:grpSpPr>
          <a:xfrm>
            <a:off x="770040" y="5900760"/>
            <a:ext cx="1528200" cy="917640"/>
            <a:chOff x="770040" y="5900760"/>
            <a:chExt cx="1528200" cy="917640"/>
          </a:xfrm>
        </p:grpSpPr>
        <p:sp>
          <p:nvSpPr>
            <p:cNvPr id="197" name=""/>
            <p:cNvSpPr/>
            <p:nvPr/>
          </p:nvSpPr>
          <p:spPr>
            <a:xfrm>
              <a:off x="77004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9200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lot 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99" name=""/>
          <p:cNvGrpSpPr/>
          <p:nvPr/>
        </p:nvGrpSpPr>
        <p:grpSpPr>
          <a:xfrm>
            <a:off x="3846600" y="5900760"/>
            <a:ext cx="1528200" cy="917640"/>
            <a:chOff x="3846600" y="5900760"/>
            <a:chExt cx="1528200" cy="917640"/>
          </a:xfrm>
        </p:grpSpPr>
        <p:sp>
          <p:nvSpPr>
            <p:cNvPr id="200" name=""/>
            <p:cNvSpPr/>
            <p:nvPr/>
          </p:nvSpPr>
          <p:spPr>
            <a:xfrm>
              <a:off x="3846600" y="5900760"/>
              <a:ext cx="1523880" cy="917640"/>
            </a:xfrm>
            <a:prstGeom prst="flowChartDocumen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3868560" y="6107760"/>
              <a:ext cx="15062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Arial"/>
                </a:rPr>
                <a:t>Print</a:t>
              </a:r>
              <a:endParaRPr b="0" lang="en-US" sz="2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02" name=""/>
          <p:cNvSpPr/>
          <p:nvPr/>
        </p:nvSpPr>
        <p:spPr>
          <a:xfrm>
            <a:off x="152388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458640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52388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4586400" y="51991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8201160" y="3733920"/>
            <a:ext cx="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"/>
          <p:cNvGrpSpPr/>
          <p:nvPr/>
        </p:nvGrpSpPr>
        <p:grpSpPr>
          <a:xfrm>
            <a:off x="5784840" y="1967040"/>
            <a:ext cx="7184880" cy="7184880"/>
            <a:chOff x="5784840" y="1967040"/>
            <a:chExt cx="7184880" cy="7184880"/>
          </a:xfrm>
        </p:grpSpPr>
        <p:pic>
          <p:nvPicPr>
            <p:cNvPr id="208" name="" descr=""/>
            <p:cNvPicPr/>
            <p:nvPr/>
          </p:nvPicPr>
          <p:blipFill>
            <a:blip r:embed="rId1"/>
            <a:stretch/>
          </p:blipFill>
          <p:spPr>
            <a:xfrm>
              <a:off x="5784840" y="1967040"/>
              <a:ext cx="7184880" cy="7184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9" name=""/>
            <p:cNvSpPr/>
            <p:nvPr/>
          </p:nvSpPr>
          <p:spPr>
            <a:xfrm>
              <a:off x="9314280" y="4575960"/>
              <a:ext cx="592560" cy="18543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27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7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27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FEC5615-9B89-4921-8B9B-C98F510EA3AB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ummary:  R package “multcompView”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visual summaries of paired comparisons relative to a threshold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Ts:  Easily decoded visual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Letters:  Parsimonious, letter-based summary that does not require graphic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ultcompBoxplots:  General function for producing variations of either or both with boxplot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0B29FE4-6C08-4B90-BED5-9E1198C915BD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ppendix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3BF8B3-20B3-4280-A639-E3DE3B0A54CC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5060880" y="-9360"/>
            <a:ext cx="4986360" cy="4986000"/>
          </a:xfrm>
          <a:prstGeom prst="rect">
            <a:avLst/>
          </a:prstGeom>
          <a:ln w="0">
            <a:noFill/>
          </a:ln>
        </p:spPr>
      </p:pic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anorexia:  postwd ~ Treat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/>
          </p:nvPr>
        </p:nvSpPr>
        <p:spPr>
          <a:xfrm>
            <a:off x="228600" y="1295280"/>
            <a:ext cx="339552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0" y="3886200"/>
            <a:ext cx="5867280" cy="320364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891000" y="4540320"/>
            <a:ext cx="1220040" cy="23180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29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39120" y="1130400"/>
            <a:ext cx="1220040" cy="267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ont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43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CB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5320EF-FB22-4CAF-96C7-957FF5D6B9C4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0" name="" descr=""/>
          <p:cNvPicPr/>
          <p:nvPr/>
        </p:nvPicPr>
        <p:blipFill>
          <a:blip r:embed="rId1"/>
          <a:stretch/>
        </p:blipFill>
        <p:spPr>
          <a:xfrm>
            <a:off x="5886360" y="0"/>
            <a:ext cx="4172040" cy="4172040"/>
          </a:xfrm>
          <a:prstGeom prst="rect">
            <a:avLst/>
          </a:prstGeom>
          <a:ln w="0">
            <a:noFill/>
          </a:ln>
        </p:spPr>
      </p:pic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846000" y="4392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arpbreaks:  breaks ~ tension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93240" y="1172880"/>
            <a:ext cx="47833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223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24" name=""/>
          <p:cNvSpPr/>
          <p:nvPr/>
        </p:nvSpPr>
        <p:spPr>
          <a:xfrm>
            <a:off x="915840" y="3429000"/>
            <a:ext cx="519120" cy="3385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72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5487840" y="790560"/>
            <a:ext cx="519120" cy="247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H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36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FF2084-3448-45F1-AB86-55523D07B539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6477120" y="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291960" y="348840"/>
            <a:ext cx="8501040" cy="77796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Number of defects of a certain type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91800" y="1157040"/>
            <a:ext cx="6445080" cy="6064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efects = counts range from 0 to 170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Normal plot on a log scale after Defects==0 were replaced by 0.1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0.1 chosen to place Defects=0 roughly on the line on a normal probability plot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e use multcompBoxplot, ignoring the obvious violations of assumptions involved in applying a normal-theory ANOVA to log(coun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efore we used the results, we’d want to repeat the analysis using more software for generalized linear mixed models more appropriate to these data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6477120" y="3397320"/>
            <a:ext cx="3581280" cy="35812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4F1F608-35F6-4EF8-B1FD-DD212E7F1B5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" descr=""/>
          <p:cNvPicPr/>
          <p:nvPr/>
        </p:nvPicPr>
        <p:blipFill>
          <a:blip r:embed="rId1"/>
          <a:stretch/>
        </p:blipFill>
        <p:spPr>
          <a:xfrm>
            <a:off x="3086280" y="-681120"/>
            <a:ext cx="6984720" cy="6985080"/>
          </a:xfrm>
          <a:prstGeom prst="rect">
            <a:avLst/>
          </a:prstGeom>
          <a:ln w="0">
            <a:noFill/>
          </a:ln>
        </p:spPr>
      </p:pic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7800" y="1087560"/>
            <a:ext cx="304812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24 operato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“Ts”, it appears that 2 are better than 6 others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 and o5 are better tha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o15, o10, o2, o17, o6, and o14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38160" y="5792760"/>
            <a:ext cx="9897840" cy="1419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Moreover 2 operators seem WORSE than all others:  o6 and o14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D44E85-B298-41FD-A034-8BDF65DCDE40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4" name="" descr=""/>
          <p:cNvPicPr/>
          <p:nvPr/>
        </p:nvPicPr>
        <p:blipFill>
          <a:blip r:embed="rId1"/>
          <a:stretch/>
        </p:blipFill>
        <p:spPr>
          <a:xfrm>
            <a:off x="3071880" y="-668160"/>
            <a:ext cx="6986520" cy="6986520"/>
          </a:xfrm>
          <a:prstGeom prst="rect">
            <a:avLst/>
          </a:prstGeom>
          <a:ln w="0">
            <a:noFill/>
          </a:ln>
        </p:spPr>
      </p:pic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139320" y="1087560"/>
            <a:ext cx="3351240" cy="5905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rom the Letters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clear that o6 and o14 are worse than all the oth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t’s NOT obvious that o2 and o5 are the only operators significantly better than 6 other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8160" y="5807160"/>
            <a:ext cx="9897840" cy="147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s are more concise:  5 columns vs. 9 in this example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s are easier to read.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60F927-D2BA-4EFF-9D83-081A61C05140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8" name="" descr=""/>
          <p:cNvPicPr/>
          <p:nvPr/>
        </p:nvPicPr>
        <p:blipFill>
          <a:blip r:embed="rId1"/>
          <a:stretch/>
        </p:blipFill>
        <p:spPr>
          <a:xfrm>
            <a:off x="3075120" y="-673200"/>
            <a:ext cx="6983280" cy="6983640"/>
          </a:xfrm>
          <a:prstGeom prst="rect">
            <a:avLst/>
          </a:prstGeom>
          <a:ln w="0">
            <a:noFill/>
          </a:ln>
        </p:spPr>
      </p:pic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8160" y="1144080"/>
            <a:ext cx="2922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7000"/>
          </a:bodyPr>
          <a:p>
            <a:pPr marL="371160" indent="-3711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same display as boxes (and triangles for the bases of Ts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ame informat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789840" indent="-30780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More easily read:  It seems easier to see that o15 is different from o1 and o5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A85237-B3AE-487E-AB64-68409E796019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 (dP sort)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3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44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o02 and o08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o NOT both have boxes in the same column per dataPOWER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814320" indent="-317520">
              <a:lnSpc>
                <a:spcPct val="100000"/>
              </a:lnSpc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ut DO in “Letters”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AB6FC53-CF4D-48BB-901E-CCE6182213C8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wo Method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790200" y="1179360"/>
            <a:ext cx="8604360" cy="53532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vert a table of logicals (TRUE or FALSE) indicating which pairs of </a:t>
            </a:r>
            <a:r>
              <a:rPr b="1" i="1" lang="en-US" sz="2600" spc="-1" strike="noStrike">
                <a:solidFill>
                  <a:srgbClr val="253fb6"/>
                </a:solidFill>
                <a:latin typeface="Arial"/>
              </a:rPr>
              <a:t>k</a:t>
            </a: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 objects are /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p-value or distance exceeding a threshold (or correlation less than a threshold)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to an easily decoded visual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wo alternative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Letter-based representation (Piepho 2004, JCGS 13:  456-466)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Neighbor” or “Indistinct Ts” (similar to “undifferentiated classes”;  Donague 2004)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Package “multcompView” (www.r-project.org)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363600" y="6402240"/>
            <a:ext cx="95979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* John R. Donaghue (2004) “Implementing Shaffer’s multiple comparison procedure for a large number of groups”, pp. 1-23 in Benjamini, Bretz and Sarkar (eds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Recent Developments in Multiple Comparison Procedures 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Institute of Mathematical Statistics Lecture Notes-Monograph Series vol. 47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A3E97F-0D6F-4784-8E58-958F0BD2426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105840" y="88920"/>
            <a:ext cx="3475080" cy="10540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log(Defects) ~ operato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37800" y="1144080"/>
            <a:ext cx="5289480" cy="59058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does not match:  o02 and o08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are NOT different according to Ts &amp; Letter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S different per dataPOWER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2" name="" descr=""/>
          <p:cNvPicPr/>
          <p:nvPr/>
        </p:nvPicPr>
        <p:blipFill>
          <a:blip r:embed="rId1"/>
          <a:stretch/>
        </p:blipFill>
        <p:spPr>
          <a:xfrm>
            <a:off x="5305320" y="-449280"/>
            <a:ext cx="4692600" cy="4692600"/>
          </a:xfrm>
          <a:prstGeom prst="rect">
            <a:avLst/>
          </a:prstGeom>
          <a:ln w="0">
            <a:noFill/>
          </a:ln>
        </p:spPr>
      </p:pic>
      <p:pic>
        <p:nvPicPr>
          <p:cNvPr id="253" name="" descr=""/>
          <p:cNvPicPr/>
          <p:nvPr/>
        </p:nvPicPr>
        <p:blipFill>
          <a:blip r:embed="rId2"/>
          <a:stretch/>
        </p:blipFill>
        <p:spPr>
          <a:xfrm>
            <a:off x="0" y="344808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 flipV="1">
            <a:off x="0" y="4914000"/>
            <a:ext cx="66294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 flipV="1">
            <a:off x="0" y="3904920"/>
            <a:ext cx="66294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265800" y="4338720"/>
            <a:ext cx="3838680" cy="285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ame for o08 with o05, o07, o15, o16, o21, o22, and o23.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JMP matches Piepho’s Letters (and NOT dP) 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 flipV="1">
            <a:off x="5106960" y="303840"/>
            <a:ext cx="4788000" cy="161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 flipV="1">
            <a:off x="5106960" y="1131480"/>
            <a:ext cx="4788000" cy="162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70272C6-D615-48F1-9F92-E5F2EF458B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pic>
        <p:nvPicPr>
          <p:cNvPr id="260" name="" descr=""/>
          <p:cNvPicPr/>
          <p:nvPr/>
        </p:nvPicPr>
        <p:blipFill>
          <a:blip r:embed="rId1"/>
          <a:srcRect l="0" t="30281" r="63288" b="8510"/>
          <a:stretch/>
        </p:blipFill>
        <p:spPr>
          <a:xfrm>
            <a:off x="228600" y="1752480"/>
            <a:ext cx="5105520" cy="4464000"/>
          </a:xfrm>
          <a:prstGeom prst="rect">
            <a:avLst/>
          </a:prstGeom>
          <a:ln w="0">
            <a:noFill/>
          </a:ln>
        </p:spPr>
      </p:pic>
      <p:pic>
        <p:nvPicPr>
          <p:cNvPr id="261" name="" descr=""/>
          <p:cNvPicPr/>
          <p:nvPr/>
        </p:nvPicPr>
        <p:blipFill>
          <a:blip r:embed="rId2"/>
          <a:stretch/>
        </p:blipFill>
        <p:spPr>
          <a:xfrm>
            <a:off x="5029200" y="160020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D60CEF-371B-474D-AB4D-290B63A2A7B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2" name="" descr=""/>
          <p:cNvPicPr/>
          <p:nvPr/>
        </p:nvPicPr>
        <p:blipFill>
          <a:blip r:embed="rId1"/>
          <a:stretch/>
        </p:blipFill>
        <p:spPr>
          <a:xfrm>
            <a:off x="5029200" y="988920"/>
            <a:ext cx="5029200" cy="5029200"/>
          </a:xfrm>
          <a:prstGeom prst="rect">
            <a:avLst/>
          </a:prstGeom>
          <a:ln w="0">
            <a:noFill/>
          </a:ln>
        </p:spPr>
      </p:pic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Same example in JMP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223560" y="5684760"/>
            <a:ext cx="9737640" cy="12477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2000"/>
          </a:bodyPr>
          <a:p>
            <a:pPr marL="351720" indent="-35172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Conclusion:  JMP matches dP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49160" indent="-29196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e “operator” codes are not the same, because I changed the codes &amp; didn’t regenerate the analysis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2"/>
          <a:srcRect l="0" t="30281" r="63288" b="8510"/>
          <a:stretch/>
        </p:blipFill>
        <p:spPr>
          <a:xfrm>
            <a:off x="55440" y="1141560"/>
            <a:ext cx="5105520" cy="4464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71FD2F6-AED5-448E-B152-BCE0C204E980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What next? 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309240" y="1157040"/>
            <a:ext cx="9404280" cy="619740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Short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gnore the discrepancy in the display in the more complicated exampl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documentation so someone can make sense of it. 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ntermediate term:  Fix the dP TukeyHDS cod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Long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x the Tukey display to match Piepho’s letters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me customers know how to read those things, so we shouldn’t just change it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ven longer term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onsider adding the “Ts” in some version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82600" indent="-2538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may be easier to read, but customers want other things more than this.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682C2C-5F70-4A9E-8596-BD3D89786F36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2" name=""/>
          <p:cNvGrpSpPr/>
          <p:nvPr/>
        </p:nvGrpSpPr>
        <p:grpSpPr>
          <a:xfrm>
            <a:off x="2544840" y="-378000"/>
            <a:ext cx="7814880" cy="7367760"/>
            <a:chOff x="2544840" y="-378000"/>
            <a:chExt cx="7814880" cy="7367760"/>
          </a:xfrm>
        </p:grpSpPr>
        <p:pic>
          <p:nvPicPr>
            <p:cNvPr id="103" name="" descr=""/>
            <p:cNvPicPr/>
            <p:nvPr/>
          </p:nvPicPr>
          <p:blipFill>
            <a:blip r:embed="rId1"/>
            <a:stretch/>
          </p:blipFill>
          <p:spPr>
            <a:xfrm>
              <a:off x="2992320" y="-378000"/>
              <a:ext cx="7367400" cy="7367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5943600" y="15840"/>
              <a:ext cx="1493280" cy="3895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045840" y="3144960"/>
              <a:ext cx="1206360" cy="596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T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530840" y="15840"/>
              <a:ext cx="2368440" cy="39099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549920" y="2284200"/>
              <a:ext cx="2487240" cy="1601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3300" spc="-1" strike="noStrike">
                  <a:solidFill>
                    <a:srgbClr val="ab1973"/>
                  </a:solidFill>
                  <a:latin typeface="Arial"/>
                </a:rPr>
                <a:t>as  Rectangles &amp; Triangles</a:t>
              </a:r>
              <a:endParaRPr b="0" lang="en-US" sz="3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8" name=""/>
            <p:cNvGrpSpPr/>
            <p:nvPr/>
          </p:nvGrpSpPr>
          <p:grpSpPr>
            <a:xfrm>
              <a:off x="2544840" y="88920"/>
              <a:ext cx="3917520" cy="2184480"/>
              <a:chOff x="2544840" y="88920"/>
              <a:chExt cx="3917520" cy="2184480"/>
            </a:xfrm>
          </p:grpSpPr>
          <p:sp>
            <p:nvSpPr>
              <p:cNvPr id="109" name=""/>
              <p:cNvSpPr/>
              <p:nvPr/>
            </p:nvSpPr>
            <p:spPr>
              <a:xfrm>
                <a:off x="2544840" y="1801800"/>
                <a:ext cx="321552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>
                <a:off x="2544840" y="2266920"/>
                <a:ext cx="38898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>
                <a:off x="5760360" y="111240"/>
                <a:ext cx="702000" cy="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flipV="1">
                <a:off x="6448680" y="88920"/>
                <a:ext cx="0" cy="218448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V="1">
                <a:off x="5757840" y="88920"/>
                <a:ext cx="0" cy="17114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V="1">
                <a:off x="2545920" y="1811160"/>
                <a:ext cx="0" cy="462240"/>
              </a:xfrm>
              <a:prstGeom prst="line">
                <a:avLst/>
              </a:prstGeom>
              <a:ln w="38160">
                <a:solidFill>
                  <a:srgbClr val="e6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T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9600" y="2687760"/>
            <a:ext cx="6096240" cy="4425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level of a factor” (boxplot)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is associated with a column of the display which indicates whether each other level is or is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0 is distinct from b2 but not b1 or b3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 </a:t>
            </a:r>
            <a:r>
              <a:rPr b="1" lang="en-US" sz="2500" spc="-1" strike="noStrike">
                <a:solidFill>
                  <a:srgbClr val="e60000"/>
                </a:solidFill>
                <a:latin typeface="Arial"/>
              </a:rPr>
              <a:t>b3 has the same “undifferentiated pattern” as b0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4920" y="5318280"/>
            <a:ext cx="6019560" cy="1707840"/>
          </a:xfrm>
          <a:prstGeom prst="rect">
            <a:avLst/>
          </a:prstGeom>
          <a:noFill/>
          <a:ln w="38160">
            <a:solidFill>
              <a:srgbClr val="e6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6081840" y="2301480"/>
            <a:ext cx="0" cy="2986200"/>
          </a:xfrm>
          <a:prstGeom prst="line">
            <a:avLst/>
          </a:prstGeom>
          <a:ln w="38160">
            <a:solidFill>
              <a:srgbClr val="e60000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6621480" y="4103640"/>
            <a:ext cx="3049560" cy="2522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1880" rIns="101880" tIns="51120" bIns="51120" anchor="t">
            <a:normAutofit/>
          </a:bodyPr>
          <a:p>
            <a:pPr marL="382680" indent="-382680">
              <a:lnSpc>
                <a:spcPct val="100000"/>
              </a:lnSpc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ach “T” or triangle points to the level(s) that column represent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6924960" y="6411960"/>
            <a:ext cx="23904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library(multcomp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b1973"/>
                </a:solidFill>
                <a:latin typeface="Arial"/>
              </a:rPr>
              <a:t>(minutes~blanket, recovery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96840" y="1179360"/>
            <a:ext cx="283860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ost-surgery recovery time (min.) with different heating blankets (b1, b2, b3) vs. a standard blanket (b0)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A7502E-2367-49D2-AB2F-E42B42F814A5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22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23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24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25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26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27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29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30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31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32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ultcompLetters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207720" y="2946240"/>
            <a:ext cx="6430680" cy="38642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 fontScale="98000"/>
          </a:bodyPr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ows that share “Letters” are NOT distinct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74760" indent="-37476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Example: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1 is not distinct from any of the other levels, because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a” with b0 and b3, an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58840" indent="-248400">
              <a:spcBef>
                <a:spcPts val="601"/>
              </a:spcBef>
              <a:buClr>
                <a:srgbClr val="000000"/>
              </a:buClr>
              <a:buFont typeface="Symbol" charset="2"/>
              <a:buChar char=""/>
              <a:tabLst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t shares “b” with b2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97760" indent="-31104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0 is not distinct from b1 or b3 but is from b2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BFD96D-3AE0-4317-B3AA-901DDCF255A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6" name=""/>
          <p:cNvGrpSpPr/>
          <p:nvPr/>
        </p:nvGrpSpPr>
        <p:grpSpPr>
          <a:xfrm>
            <a:off x="4311720" y="-3002040"/>
            <a:ext cx="8894520" cy="9204480"/>
            <a:chOff x="4311720" y="-3002040"/>
            <a:chExt cx="8894520" cy="9204480"/>
          </a:xfrm>
        </p:grpSpPr>
        <p:pic>
          <p:nvPicPr>
            <p:cNvPr id="137" name="" descr=""/>
            <p:cNvPicPr/>
            <p:nvPr/>
          </p:nvPicPr>
          <p:blipFill>
            <a:blip r:embed="rId1"/>
            <a:stretch/>
          </p:blipFill>
          <p:spPr>
            <a:xfrm>
              <a:off x="4311720" y="-3002040"/>
              <a:ext cx="8894520" cy="88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138" name=""/>
            <p:cNvGrpSpPr/>
            <p:nvPr/>
          </p:nvGrpSpPr>
          <p:grpSpPr>
            <a:xfrm>
              <a:off x="7389720" y="198360"/>
              <a:ext cx="2592360" cy="6004080"/>
              <a:chOff x="7389720" y="198360"/>
              <a:chExt cx="2592360" cy="6004080"/>
            </a:xfrm>
          </p:grpSpPr>
          <p:sp>
            <p:nvSpPr>
              <p:cNvPr id="139" name=""/>
              <p:cNvSpPr/>
              <p:nvPr/>
            </p:nvSpPr>
            <p:spPr>
              <a:xfrm>
                <a:off x="8563680" y="353880"/>
                <a:ext cx="607680" cy="199044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ab1973"/>
                    </a:solidFill>
                    <a:latin typeface="Courier New"/>
                  </a:rPr>
                  <a:t> 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r>
                  <a:rPr b="1" lang="en-US" sz="2800" spc="-1" strike="noStrike">
                    <a:solidFill>
                      <a:srgbClr val="06acbe"/>
                    </a:solidFill>
                    <a:latin typeface="Courier New"/>
                  </a:rPr>
                  <a:t>b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  <a:p>
                <a:pPr>
                  <a:lnSpc>
                    <a:spcPct val="100000"/>
                  </a:lnSpc>
                  <a:spcAft>
                    <a:spcPts val="499"/>
                  </a:spcAft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2800" spc="-1" strike="noStrike">
                    <a:solidFill>
                      <a:srgbClr val="000000"/>
                    </a:solidFill>
                    <a:latin typeface="Courier New"/>
                  </a:rPr>
                  <a:t>a</a:t>
                </a:r>
                <a:endParaRPr b="0" lang="en-US" sz="2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140" name=""/>
              <p:cNvGrpSpPr/>
              <p:nvPr/>
            </p:nvGrpSpPr>
            <p:grpSpPr>
              <a:xfrm>
                <a:off x="7389720" y="198360"/>
                <a:ext cx="2592360" cy="6004080"/>
                <a:chOff x="7389720" y="198360"/>
                <a:chExt cx="2592360" cy="6004080"/>
              </a:xfrm>
            </p:grpSpPr>
            <p:sp>
              <p:nvSpPr>
                <p:cNvPr id="141" name=""/>
                <p:cNvSpPr/>
                <p:nvPr/>
              </p:nvSpPr>
              <p:spPr>
                <a:xfrm>
                  <a:off x="9159840" y="198360"/>
                  <a:ext cx="822240" cy="600408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8624880" y="212760"/>
                  <a:ext cx="488880" cy="4008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grpSp>
              <p:nvGrpSpPr>
                <p:cNvPr id="143" name=""/>
                <p:cNvGrpSpPr/>
                <p:nvPr/>
              </p:nvGrpSpPr>
              <p:grpSpPr>
                <a:xfrm>
                  <a:off x="7832520" y="210960"/>
                  <a:ext cx="762120" cy="3048120"/>
                  <a:chOff x="7832520" y="210960"/>
                  <a:chExt cx="762120" cy="3048120"/>
                </a:xfrm>
              </p:grpSpPr>
              <p:sp>
                <p:nvSpPr>
                  <p:cNvPr id="144" name=""/>
                  <p:cNvSpPr/>
                  <p:nvPr/>
                </p:nvSpPr>
                <p:spPr>
                  <a:xfrm>
                    <a:off x="7832520" y="210960"/>
                    <a:ext cx="762120" cy="304812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45" name=""/>
                  <p:cNvSpPr/>
                  <p:nvPr/>
                </p:nvSpPr>
                <p:spPr>
                  <a:xfrm>
                    <a:off x="7861680" y="2517480"/>
                    <a:ext cx="718560" cy="67320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3800" spc="-1" strike="noStrike">
                        <a:solidFill>
                          <a:srgbClr val="000000"/>
                        </a:solidFill>
                        <a:latin typeface="Arial"/>
                      </a:rPr>
                      <a:t>Ts</a:t>
                    </a:r>
                    <a:endParaRPr b="0" lang="en-US" sz="38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46" name=""/>
                <p:cNvSpPr/>
                <p:nvPr/>
              </p:nvSpPr>
              <p:spPr>
                <a:xfrm>
                  <a:off x="8050320" y="4405320"/>
                  <a:ext cx="1911240" cy="173988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“</a:t>
                  </a:r>
                  <a:r>
                    <a:rPr b="1" lang="en-US" sz="2700" spc="-1" strike="noStrike">
                      <a:solidFill>
                        <a:srgbClr val="000000"/>
                      </a:solidFill>
                      <a:latin typeface="Arial"/>
                    </a:rPr>
                    <a:t>Letters” displayed as rectangles </a:t>
                  </a:r>
                  <a:endParaRPr b="0" lang="en-US" sz="27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7389720" y="3475080"/>
                  <a:ext cx="1657440" cy="673200"/>
                </a:xfrm>
                <a:prstGeom prst="rect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3800" spc="-1" strike="noStrike">
                      <a:solidFill>
                        <a:srgbClr val="000000"/>
                      </a:solidFill>
                      <a:latin typeface="Arial"/>
                    </a:rPr>
                    <a:t>Letters</a:t>
                  </a:r>
                  <a:endParaRPr b="0" lang="en-US" sz="38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846000" y="103320"/>
            <a:ext cx="8501040" cy="12268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covery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minutes ~ blanket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9320" y="1245960"/>
            <a:ext cx="3782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50" name="" descr=""/>
          <p:cNvPicPr/>
          <p:nvPr/>
        </p:nvPicPr>
        <p:blipFill>
          <a:blip r:embed="rId2"/>
          <a:stretch/>
        </p:blipFill>
        <p:spPr>
          <a:xfrm>
            <a:off x="0" y="2994120"/>
            <a:ext cx="5840280" cy="413064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/>
          <p:nvPr/>
        </p:nvSpPr>
        <p:spPr>
          <a:xfrm>
            <a:off x="4068720" y="243000"/>
            <a:ext cx="669960" cy="2104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895320" y="3422520"/>
            <a:ext cx="669960" cy="3611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0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1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2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300" spc="-1" strike="noStrike">
                <a:solidFill>
                  <a:srgbClr val="ab1973"/>
                </a:solidFill>
                <a:latin typeface="Arial"/>
              </a:rPr>
              <a:t>b3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F0339F-AE8F-4461-B2D5-8BF39AA5CDA1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Ts vs. Letters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833040" y="1579320"/>
            <a:ext cx="852012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grpSp>
        <p:nvGrpSpPr>
          <p:cNvPr id="155" name=""/>
          <p:cNvGrpSpPr/>
          <p:nvPr/>
        </p:nvGrpSpPr>
        <p:grpSpPr>
          <a:xfrm>
            <a:off x="5062680" y="-2803680"/>
            <a:ext cx="8375400" cy="8375760"/>
            <a:chOff x="5062680" y="-2803680"/>
            <a:chExt cx="8375400" cy="8375760"/>
          </a:xfrm>
        </p:grpSpPr>
        <p:pic>
          <p:nvPicPr>
            <p:cNvPr id="156" name="" descr=""/>
            <p:cNvPicPr/>
            <p:nvPr/>
          </p:nvPicPr>
          <p:blipFill>
            <a:blip r:embed="rId1"/>
            <a:stretch/>
          </p:blipFill>
          <p:spPr>
            <a:xfrm>
              <a:off x="5062680" y="-2803680"/>
              <a:ext cx="8375400" cy="83757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7" name=""/>
            <p:cNvSpPr/>
            <p:nvPr/>
          </p:nvSpPr>
          <p:spPr>
            <a:xfrm>
              <a:off x="9176040" y="174600"/>
              <a:ext cx="668160" cy="21582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ab1973"/>
                  </a:solidFill>
                  <a:latin typeface="Courier New"/>
                </a:rPr>
                <a:t> 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r>
                <a:rPr b="1" lang="en-US" sz="3200" spc="-1" strike="noStrike">
                  <a:solidFill>
                    <a:srgbClr val="06acbe"/>
                  </a:solidFill>
                  <a:latin typeface="Courier New"/>
                </a:rPr>
                <a:t>b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spcAft>
                  <a:spcPts val="300"/>
                </a:spcAft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200" spc="-1" strike="noStrike">
                  <a:solidFill>
                    <a:srgbClr val="000000"/>
                  </a:solidFill>
                  <a:latin typeface="Courier New"/>
                </a:rPr>
                <a:t>a</a:t>
              </a:r>
              <a:endParaRPr b="0" lang="en-US" sz="3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aphicFrame>
        <p:nvGraphicFramePr>
          <p:cNvPr id="158" name=""/>
          <p:cNvGraphicFramePr/>
          <p:nvPr/>
        </p:nvGraphicFramePr>
        <p:xfrm>
          <a:off x="380880" y="2971800"/>
          <a:ext cx="8915400" cy="3822840"/>
        </p:xfrm>
        <a:graphic>
          <a:graphicData uri="http://schemas.openxmlformats.org/drawingml/2006/table">
            <a:tbl>
              <a:tblPr/>
              <a:tblGrid>
                <a:gridCol w="762120"/>
                <a:gridCol w="3962520"/>
                <a:gridCol w="4190760"/>
              </a:tblGrid>
              <a:tr h="533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T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Letters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3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Pro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Simple, Easily decoded visually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Easily added to a text table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* Less space than “Ts”? 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646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on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Can’t add to a simple text table without graphics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550"/>
                        </a:spcBef>
                        <a:tabLst>
                          <a:tab algn="l" pos="0"/>
                          <a:tab algn="l" pos="1019160"/>
                          <a:tab algn="l" pos="2038320"/>
                          <a:tab algn="l" pos="3057480"/>
                          <a:tab algn="l" pos="4076640"/>
                          <a:tab algn="l" pos="5095800"/>
                          <a:tab algn="l" pos="6114960"/>
                          <a:tab algn="l" pos="7134120"/>
                          <a:tab algn="l" pos="8153280"/>
                          <a:tab algn="l" pos="9172440"/>
                          <a:tab algn="l" pos="10191600"/>
                        </a:tabLst>
                      </a:pPr>
                      <a:r>
                        <a:rPr b="1" lang="en-US" sz="2200" spc="-1" strike="noStrike">
                          <a:solidFill>
                            <a:srgbClr val="253fb6"/>
                          </a:solidFill>
                          <a:latin typeface="Arial"/>
                        </a:rPr>
                        <a:t>Requires more cognitive processing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BC15E3-FA6A-4E81-BCA6-0519E86C60D0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9" name="" descr=""/>
          <p:cNvPicPr/>
          <p:nvPr/>
        </p:nvPicPr>
        <p:blipFill>
          <a:blip r:embed="rId1"/>
          <a:stretch/>
        </p:blipFill>
        <p:spPr>
          <a:xfrm>
            <a:off x="5334120" y="-1279440"/>
            <a:ext cx="7537320" cy="7537320"/>
          </a:xfrm>
          <a:prstGeom prst="rect">
            <a:avLst/>
          </a:prstGeom>
          <a:ln w="0">
            <a:noFill/>
          </a:ln>
        </p:spPr>
      </p:pic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 Study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31320" y="1091880"/>
            <a:ext cx="6032520" cy="515628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5 different treatment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1time = 20 mg once/day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2times=10 mg twice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4times = 5mg 4 times/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drugD, drugE = 2 other drug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rugE produced the greatest reduction, and is the only treatment distinct from all others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For “2times” and “4times”, we  must read 2 different “letters” but only one “T” each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080040" y="4929120"/>
            <a:ext cx="2378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duction in Cholester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289080" y="6350040"/>
            <a:ext cx="94834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e the “multcomp” package in R o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eter H. Westfall, Randall D. Tobias, Dror Rom, Russell D. Wolfinger, and Yosef Hochberg (1999) </a:t>
            </a:r>
            <a:r>
              <a:rPr b="0" i="1" lang="en-US" sz="1400" spc="-1" strike="noStrike">
                <a:solidFill>
                  <a:srgbClr val="000000"/>
                </a:solidFill>
                <a:latin typeface="Arial"/>
              </a:rPr>
              <a:t>Multiple Comparisons and Multiple Tests</a:t>
            </a: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 (SAS Institut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6CBDD9F-F206-497A-93D5-25E2150106A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" descr=""/>
          <p:cNvPicPr/>
          <p:nvPr/>
        </p:nvPicPr>
        <p:blipFill>
          <a:blip r:embed="rId1"/>
          <a:stretch/>
        </p:blipFill>
        <p:spPr>
          <a:xfrm>
            <a:off x="5754600" y="-1192320"/>
            <a:ext cx="6635880" cy="663588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846000" y="115560"/>
            <a:ext cx="8501040" cy="121428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cholesterol:  </a:t>
            </a:r>
            <a:br>
              <a:rPr sz="2800"/>
            </a:b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esponse ~ trt in dataPOWER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136440" y="1245960"/>
            <a:ext cx="5654880" cy="53528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dataPOWER matches Piepho’s Letters (and JMP) in this case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0">
              <a:spcBef>
                <a:spcPts val="649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2"/>
          <a:stretch/>
        </p:blipFill>
        <p:spPr>
          <a:xfrm>
            <a:off x="0" y="2819520"/>
            <a:ext cx="6086520" cy="432432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>
            <a:off x="704880" y="3160800"/>
            <a:ext cx="1467000" cy="3907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1tim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2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3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4tim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Aft>
                <a:spcPts val="14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ab1973"/>
                </a:solidFill>
                <a:latin typeface="Arial"/>
              </a:rPr>
              <a:t>dru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ACB7B3-8911-4590-832F-9F1C3E35739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846000" y="552600"/>
            <a:ext cx="8501040" cy="777600"/>
          </a:xfrm>
          <a:prstGeom prst="rect">
            <a:avLst/>
          </a:prstGeom>
          <a:noFill/>
          <a:ln w="0">
            <a:noFill/>
          </a:ln>
        </p:spPr>
        <p:txBody>
          <a:bodyPr lIns="0" rIns="0" tIns="51120" bIns="51120" anchor="t">
            <a:noAutofit/>
          </a:bodyPr>
          <a:p>
            <a:pPr indent="0">
              <a:lnSpc>
                <a:spcPct val="110000"/>
              </a:lnSpc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800" spc="-1" strike="noStrike">
                <a:solidFill>
                  <a:srgbClr val="ab0e4b"/>
                </a:solidFill>
                <a:latin typeface="Arial"/>
              </a:rPr>
              <a:t>R Foundation for Statistical Computing </a:t>
            </a:r>
            <a:endParaRPr b="1" lang="en-US" sz="2800" spc="-1" strike="noStrike">
              <a:solidFill>
                <a:srgbClr val="ab0e4b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77400" y="1099800"/>
            <a:ext cx="10029960" cy="61657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www.r-project.or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R is the platform of choice for an increasing number of the leading experts in statistical computing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723 contributed packages downloadable from ‘CRAN’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300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58 mirrors in 24 countrie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(2006.04.30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The availability of downloadable R code substantially reduces the time to learn, apply, modify and extend existing statistical techniques. 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marL="382680" indent="-382680">
              <a:spcBef>
                <a:spcPts val="649"/>
              </a:spcBef>
              <a:buClr>
                <a:srgbClr val="ab0e4b"/>
              </a:buClr>
              <a:buFont typeface="Wingdings" charset="2"/>
              <a:buChar char="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1" lang="en-US" sz="2600" spc="-1" strike="noStrike">
                <a:solidFill>
                  <a:srgbClr val="253fb6"/>
                </a:solidFill>
                <a:latin typeface="Arial"/>
              </a:rPr>
              <a:t>You can increase your chances that people like me will read and cite your work if you publish </a:t>
            </a:r>
            <a:endParaRPr b="1" lang="en-US" sz="2600" spc="-1" strike="noStrike">
              <a:solidFill>
                <a:srgbClr val="253fb6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in journals with articles, data and R scripts freely downloadable or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814320" indent="-317520">
              <a:spcBef>
                <a:spcPts val="624"/>
              </a:spcBef>
              <a:buClr>
                <a:srgbClr val="000000"/>
              </a:buClr>
              <a:buFont typeface="Symbol" charset="2"/>
              <a:buChar char="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books with companion R packages 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6477AA-BA76-4BC5-A4B5-E2B5AAFA8EB6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3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09T14:20:44Z</dcterms:created>
  <dc:creator>sherry</dc:creator>
  <dc:description/>
  <dc:language>en-US</dc:language>
  <cp:lastModifiedBy>spencerg</cp:lastModifiedBy>
  <cp:lastPrinted>2000-04-07T16:27:44Z</cp:lastPrinted>
  <dcterms:modified xsi:type="dcterms:W3CDTF">2006-05-15T20:13:16Z</dcterms:modified>
  <cp:revision>1570</cp:revision>
  <dc:subject/>
  <dc:title>Yield Impact Table Overview</dc:title>
</cp:coreProperties>
</file>