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91296"/>
        <c:axId val="46472978"/>
      </c:barChart>
      <c:catAx>
        <c:axId val="45991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72978"/>
        <c:crosses val="autoZero"/>
        <c:auto val="1"/>
        <c:lblAlgn val="ctr"/>
        <c:lblOffset val="100"/>
        <c:noMultiLvlLbl val="0"/>
      </c:catAx>
      <c:valAx>
        <c:axId val="46472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91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ED9-639B-475E-BD81-C7212CE2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478-C281-4030-B2F0-EBB8F926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844-E7B5-4C6B-866E-CCBC16D8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EBF-96B1-4478-B4B2-D17BADE8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4EC-3DE6-42E9-B4FD-2976B26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E8C-8A99-47CD-AC63-B76CE8E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51B-CC10-43F3-9424-8EB15F9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8EE-3A64-4AEC-B328-64C149E8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C78-4262-48DE-B003-92322510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B15-A268-4483-9F5B-5BDF21B0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4B6-0ED1-4128-9417-7E7CD099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5E9-7301-4B81-9DD9-649A13CE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E7C48-1B0F-439B-A917-65F1DF2F10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