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183772"/>
        <c:axId val="53068093"/>
      </c:barChart>
      <c:catAx>
        <c:axId val="521837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068093"/>
        <c:crosses val="autoZero"/>
        <c:auto val="1"/>
        <c:lblAlgn val="ctr"/>
        <c:lblOffset val="100"/>
        <c:noMultiLvlLbl val="0"/>
      </c:catAx>
      <c:valAx>
        <c:axId val="530680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837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58AF-9A66-42F8-8B3A-B78B41051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C2A6-EBDE-486F-88AD-CA307CBE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31EF-67D3-45F8-9ADA-7E4C1613A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14A0-412E-4ED2-822A-4DA209928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AAD2-899C-4124-A499-C89724C6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D28D-1A7A-4FB8-A55D-B6E24385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C6E9-6569-4B4D-9F20-4D53E199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7955-B3F6-4059-98F5-7C350EEB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109A-B903-4245-8F72-F8DFC453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18A7-2A85-4DAA-9D74-D3D6BB69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CEAA-F0AE-434F-9CED-C0E3D168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EB1E-F8EB-441E-B2AA-1D6CDDD4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80DD3-3EF9-438D-8A18-64A1C0437F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