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11866"/>
        <c:axId val="76646094"/>
      </c:barChart>
      <c:catAx>
        <c:axId val="37118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646094"/>
        <c:crosses val="autoZero"/>
        <c:auto val="1"/>
        <c:lblAlgn val="ctr"/>
        <c:lblOffset val="100"/>
        <c:noMultiLvlLbl val="0"/>
      </c:catAx>
      <c:valAx>
        <c:axId val="766460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18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835E-3438-473B-9079-66FD7547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F246-150E-4E7E-B17E-687B2F91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22F2-218E-403A-8384-BCFA087A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A7A1-5E88-4925-BCE3-1A77594A6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EF86-F373-408F-84E1-0BDF470C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DA09-2FCC-4842-AD68-8CF5A717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4059-AF43-4467-B4A4-9FDED6B9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32DD-8E96-42DD-87F2-8FCEFA62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DB1C-BB40-4ECB-B0FB-6C0A2395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5852-8757-4A3A-A583-8C2D8B8B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F9FE-65F5-434E-A7F2-67514F12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C035-763F-4D92-8469-47D1AC5D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30348-112C-467B-9DF0-8E571EE068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