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90623"/>
        <c:axId val="69805035"/>
      </c:barChart>
      <c:catAx>
        <c:axId val="41690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05035"/>
        <c:crosses val="autoZero"/>
        <c:auto val="1"/>
        <c:lblAlgn val="ctr"/>
        <c:lblOffset val="100"/>
        <c:noMultiLvlLbl val="0"/>
      </c:catAx>
      <c:valAx>
        <c:axId val="69805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90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615-B298-4F0C-A273-B48AE5F2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A1B-1AC1-47BE-A340-1128D5BD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CDC-B44A-4C48-828F-C0E1F5F0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228-82B9-446B-81B4-C6F4FE92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103-7C4E-45F8-B399-6B3D2075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6D0-41B2-4EFD-8D49-D7E916CA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71A-B89E-4437-B7B2-845CC9E1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B7B-CFE6-41E7-98EA-B664B633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C0E-9995-4612-BD7B-7EB8A173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626-3226-4A34-B3CB-3F2EABCE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A94-7B44-46EB-9D22-51B55EB8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294-E9BD-44A1-AD23-5EDE3BFA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6EE13-0015-4C49-932B-03D74AA234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