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29133"/>
        <c:axId val="3560001"/>
      </c:barChart>
      <c:catAx>
        <c:axId val="3822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001"/>
        <c:crosses val="autoZero"/>
        <c:auto val="1"/>
        <c:lblAlgn val="ctr"/>
        <c:lblOffset val="100"/>
        <c:noMultiLvlLbl val="0"/>
      </c:catAx>
      <c:valAx>
        <c:axId val="3560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708-021B-4B40-B212-243A4FED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8C0-5387-49F6-98D7-B4DE19F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FAD-14FA-469F-80E2-307FB2B9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02A-13EF-4D66-93B4-46043F06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0C1-03A4-4F5B-BC41-74DDD104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83F-DDAA-4E14-AA5C-DFECF10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24F-2B41-4C88-8CD6-100686C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3E3-ECDA-4266-AA6C-3BE2169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B12-EFD0-46EE-9EDC-F13A1ECB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943-8852-4513-AB8E-71BBC47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33A-9826-4DA3-9034-17C7044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0A8-1778-4C11-BB0B-CC9BED7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7F76-2938-4B75-A227-BD99260B5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