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35256"/>
        <c:axId val="70990092"/>
      </c:barChart>
      <c:catAx>
        <c:axId val="7835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90092"/>
        <c:crosses val="autoZero"/>
        <c:auto val="1"/>
        <c:lblAlgn val="ctr"/>
        <c:lblOffset val="100"/>
        <c:noMultiLvlLbl val="0"/>
      </c:catAx>
      <c:valAx>
        <c:axId val="709900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35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5832-041C-4CBA-B857-9B923AB7F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4242-8F84-4236-9F0A-2CCECA8A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5F8A-10C5-45F3-BCB1-5DE7C522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08A-A540-47CD-A19B-A2151878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00F-99C5-4BE6-AA26-9250200C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ADC0-E439-4E1A-865D-C41A829A1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A37A-B042-472A-82FB-1E6984B3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23FD-4798-41F5-A662-5894886C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5E01-01D2-47A1-8B73-A08FD8470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FA80-2196-44BB-8A40-698B6484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FDA-A64F-4A97-92FB-DA63621D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B63-0521-4515-9556-1EBB0F87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70C88-5635-4E49-A284-429D42FBAF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