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71221"/>
        <c:axId val="38963186"/>
      </c:barChart>
      <c:catAx>
        <c:axId val="35571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63186"/>
        <c:crosses val="autoZero"/>
        <c:auto val="1"/>
        <c:lblAlgn val="ctr"/>
        <c:lblOffset val="100"/>
        <c:noMultiLvlLbl val="0"/>
      </c:catAx>
      <c:valAx>
        <c:axId val="38963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71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1AD-961A-4ACC-A18C-3F044E34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5C1-55C3-4BFF-A7D5-FBEBDFA1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6EE-B9BD-4103-9F81-F4CFF4CF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9F7-1B76-45E0-96C6-764D45C2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EB0-F63A-4A62-9E45-648024F7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972-0C51-487C-A77B-0779FAF0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40E-1A49-4911-8127-CEFAC371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EBA-7F68-4A3B-A9DB-50DD9559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B15-0A8B-4FFD-834A-EB00F550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13E-4682-4BC4-BCC2-5004B0C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87A-3D2A-4F83-AA5F-953F129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777-8E76-45D5-BCAF-41CC737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48467-16AD-47B2-83AB-FD717EE84B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