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98325"/>
        <c:axId val="87877131"/>
      </c:barChart>
      <c:catAx>
        <c:axId val="99698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77131"/>
        <c:crosses val="autoZero"/>
        <c:auto val="1"/>
        <c:lblAlgn val="ctr"/>
        <c:lblOffset val="100"/>
        <c:noMultiLvlLbl val="0"/>
      </c:catAx>
      <c:valAx>
        <c:axId val="87877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98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E45-693B-4877-ABBB-03C75007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CB6-690D-4467-AC85-A81396B2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2A2-9A5C-4882-B681-59034FE0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047-C9AB-428F-BE49-E366DA82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9EC-239C-47E6-9D31-65BB2A02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20F-5A96-41CA-B971-D8548399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263-4899-4B0B-8F5E-65FE667E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C152-D884-4094-AF1E-430455EF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0E0-B01A-4826-8DBE-81734194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84E-03FE-428D-B20F-59F0BB0D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CB3-29F3-4CE7-9E39-9BF566FD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FA4-41D0-4415-9A53-A1DDC6F6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E8A13-E6DF-48F0-8266-1FFA40DAA0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