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720"/>
        <c:axId val="11143357"/>
      </c:barChart>
      <c:catAx>
        <c:axId val="713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43357"/>
        <c:crosses val="autoZero"/>
        <c:auto val="1"/>
        <c:lblAlgn val="ctr"/>
        <c:lblOffset val="100"/>
        <c:noMultiLvlLbl val="0"/>
      </c:catAx>
      <c:valAx>
        <c:axId val="11143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DD3-7177-4CB3-83A4-7BC0F434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E58-E79E-4CEB-88F8-1FBE210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17D-1C33-41F4-9379-CB50EA25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EA8-0180-49F9-A709-95F2A402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D4C-29C2-4B04-A77F-0813B2D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A15-2A5B-4A05-BDB9-F4890F87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357-4D11-4239-B021-4B8BE2C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6B6-46BE-4D0A-9713-DA567D0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A3B-C6D6-4BCC-ABF2-B254DAB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375-1C10-458B-91CC-31C9ECD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44A-D919-4312-9CDA-BE947DC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C32-4A99-41C3-89D8-2F3E06E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A4F3D-FC49-412E-98E2-796641170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