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74286"/>
        <c:axId val="65212819"/>
      </c:barChart>
      <c:catAx>
        <c:axId val="83374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2819"/>
        <c:crosses val="autoZero"/>
        <c:auto val="1"/>
        <c:lblAlgn val="ctr"/>
        <c:lblOffset val="100"/>
        <c:noMultiLvlLbl val="0"/>
      </c:catAx>
      <c:valAx>
        <c:axId val="65212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74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C68-A2E5-48E3-AB47-85568FC3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9D7-1C22-4EA7-BE14-1BF01755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D64-1B62-4164-8236-79CC9B79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CC0-442D-48AB-BA1D-EF9EA111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F3B-4B26-46BE-9CA6-043022C6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FD2-3DF2-4A0C-8BDD-F80AB039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78C-2365-4C94-9855-AA9C400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CC6-7EEF-4B5B-9D56-D2D77AB3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558-034F-4BA0-8550-023F811E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5F7-BC32-41C9-B1B3-2CDC300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829-E350-4A08-AEC3-3CDCA84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22D-42AB-478A-9C94-68A94A1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B3ADC-7D6F-47F2-88D3-B8A4F9E01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