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949642"/>
        <c:axId val="43609141"/>
      </c:barChart>
      <c:catAx>
        <c:axId val="779496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09141"/>
        <c:crosses val="autoZero"/>
        <c:auto val="1"/>
        <c:lblAlgn val="ctr"/>
        <c:lblOffset val="100"/>
        <c:noMultiLvlLbl val="0"/>
      </c:catAx>
      <c:valAx>
        <c:axId val="436091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496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ECAB-8C47-458A-AA8B-CEDBF7A3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72A1-2B2F-4CE5-9917-1DC4FDA5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DA6C-FD19-475A-A82E-C540B621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2BE5-C56F-45D8-8E39-104C9A75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A7D7-093A-4070-AD85-10E88F44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6BC8-DB28-47C1-8545-5EFE5609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BE6F-F830-4499-ABA7-83BE3D41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201E-82AE-4C9D-97C2-111D9386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2A12-007E-43A6-A137-4C68B1B8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45C9-3836-4C2E-AB88-8C68FB20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049D-038F-4C86-A149-D8F06FC1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7970-B0D9-42EA-81AD-549A2C38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5D183-CFCF-4947-83D6-C04F9C603C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