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6849"/>
        <c:axId val="83046031"/>
      </c:barChart>
      <c:catAx>
        <c:axId val="87596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6031"/>
        <c:crosses val="autoZero"/>
        <c:auto val="1"/>
        <c:lblAlgn val="ctr"/>
        <c:lblOffset val="100"/>
        <c:noMultiLvlLbl val="0"/>
      </c:catAx>
      <c:valAx>
        <c:axId val="83046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6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0B2-504A-42EA-917B-A73DAA65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4C8-E08C-4DA3-9D5E-4474C52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471-A940-4A50-A187-06B5948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ADC-53CD-400D-9EA2-2455FEE0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4E0-E1B8-4C47-83CB-1B5E27D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3B6-0D9B-4A0A-9387-70D3EE7A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C43-009E-4270-B8CA-AF4A7481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680-FECC-4D21-BFE6-06B8E26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B29-D441-4FBF-89F4-3DC09F51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5F3-0038-4976-9E60-20751CA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25D-5AD8-40E6-8C42-FE466412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E90-8B1D-49D0-99DC-40936DC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A539-BBFE-43B2-953E-E3442D8DB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