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588628"/>
        <c:axId val="40964128"/>
      </c:barChart>
      <c:catAx>
        <c:axId val="365886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64128"/>
        <c:crosses val="autoZero"/>
        <c:auto val="1"/>
        <c:lblAlgn val="ctr"/>
        <c:lblOffset val="100"/>
        <c:noMultiLvlLbl val="0"/>
      </c:catAx>
      <c:valAx>
        <c:axId val="409641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886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4AEE-A66C-42BD-BF84-DCE78674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B3E6-0215-47A9-8D3A-7F072D7D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D9A2-0B7A-41BA-92FC-07A85906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F022-787F-446D-A76B-9D188E0A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7F21-1188-4721-9864-B72494C8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C2BB-AA02-4FDF-9A42-705F17F5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A8D-8F71-465E-9B47-BD170257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E98B-F720-4E45-8335-9FBFF411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A193-FC6A-4322-9CA7-6B16AC13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EA4B-E9BD-4A96-983B-0F11D346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B9A1-2012-44BB-8292-BCE5082E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8553-DCD8-478D-9E47-4F0FE9F4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66510-3412-41A4-8E4B-7944108241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