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72540"/>
        <c:axId val="72366297"/>
      </c:barChart>
      <c:catAx>
        <c:axId val="62872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66297"/>
        <c:crosses val="autoZero"/>
        <c:auto val="1"/>
        <c:lblAlgn val="ctr"/>
        <c:lblOffset val="100"/>
        <c:noMultiLvlLbl val="0"/>
      </c:catAx>
      <c:valAx>
        <c:axId val="72366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72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469-689E-410B-8218-9DA62705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51C6-7F11-48E0-B7E9-241E8785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50D-D7DD-40A0-AF64-7CC55E12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870-2074-47FA-B46E-835A1018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8F6-D738-40AE-8C46-5FFFD686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BE6-BF4C-4255-A5C4-A0CA8192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FF0-4B72-494D-9B75-5A460C1F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9FA-3DEC-4DD1-8AFB-E372E4A5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6A5-D46C-4A9C-B294-CF88F6B3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FD9-F5AD-4DC2-90A0-583BEDFF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660-7810-4367-9CD6-65636059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B64-41FA-4362-923F-7367BBD2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34F3E-E35A-42F7-89CA-4EE7641500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