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53765"/>
        <c:axId val="35726063"/>
      </c:barChart>
      <c:catAx>
        <c:axId val="56753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26063"/>
        <c:crosses val="autoZero"/>
        <c:auto val="1"/>
        <c:lblAlgn val="ctr"/>
        <c:lblOffset val="100"/>
        <c:noMultiLvlLbl val="0"/>
      </c:catAx>
      <c:valAx>
        <c:axId val="35726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53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BA8-2498-4862-B80B-547DDF1F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C8C-B2B7-4EBB-AA2F-992FB39B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F76-DA9E-4F1F-89E1-C72A7948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78F-1803-4A04-AD02-954BAE09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A6E-FB7C-4ACF-AA16-10E18C7C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FBE-1E9D-4109-982A-A60A0FAF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FC2-30C5-4938-9079-8D6C3339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9B3-7982-4DF1-812A-B28038BD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6B5-3D9A-464E-A136-01573FAD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B99-DB64-4829-B2D5-97A9C43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275-690F-4BFA-871E-06F0BCB2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114-FA82-4690-B661-680B584C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FBF6E-59DD-4B66-83EE-D3B8F684A8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