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48828"/>
        <c:axId val="41445542"/>
      </c:barChart>
      <c:catAx>
        <c:axId val="29948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45542"/>
        <c:crosses val="autoZero"/>
        <c:auto val="1"/>
        <c:lblAlgn val="ctr"/>
        <c:lblOffset val="100"/>
        <c:noMultiLvlLbl val="0"/>
      </c:catAx>
      <c:valAx>
        <c:axId val="41445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48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8B4-DF4A-4086-B1A7-A8E9539F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079-4972-439E-8BC9-3135B188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5380-81DA-43BD-A722-C4D5ECFF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928-B53B-40CB-804E-D7DFA13B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AEF-4F10-4236-9CB6-B8CC84E2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849-5AFE-476D-9160-9AC316CD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ADB-E989-421D-8B59-4CAA4865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E44-FA60-4F33-B2EB-490DE360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F7F-25BC-4441-B476-7D48E3E1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A641-3AB4-4F12-ACD6-3C26F17F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1ED-3A79-411E-B4F3-EEBB930E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B6D-0D00-45F4-B4DD-588486F8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3ADE8-5F26-4986-8B50-2BA6673032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